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99300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833F-DC80-4A04-BF3B-4BDA380A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2443-869A-4E90-86D0-ACCFED05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B6EB-39F2-4E29-8C85-A7EF05F2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6CC4-FA9A-45A3-8194-EFF8CB88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64DB-3C1F-4A96-86DE-9BFCB72D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A4C3-A723-4B2E-850A-1E429816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EF4D-2469-474F-BF00-068F5404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4CED-1AF2-4B02-8448-50AB3A8B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EE9D-FB6E-45BF-94E4-827083DC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DBDB-0E82-41BE-9502-9265287A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C1AF-4DF7-4165-A8A7-C8350F34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8EAC-62F4-4A9E-AB34-AF788072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C5FB82-DB68-4DF2-B8EA-4B04B37DE5B9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606600"/>
            <a:ext cx="1901880" cy="2590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9600" y="3544920"/>
            <a:ext cx="1890720" cy="2668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6440" y="146160"/>
            <a:ext cx="8915400" cy="30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SINGLE-CHIP REAL-TIME DUAL BEAM FORMER WITH CORRELATION CAPABILITIES AT N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25600" y="490680"/>
            <a:ext cx="6164280" cy="26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 Virtex-5 FXT 100 FPGA/KIT ML5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 twin Channels for FAN (but 24 complex gain sets), 24 (and later 32) channels for BAO cylinder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ull rate dual beam-forming for trigger  ~30K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dition from 2 to 65536 dual square-modu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rrelation : Visibility of only one channel pair at the same time &lt;=&gt; full rate with effective trigger 390Hz for 78 visibilities (12 channels) =&gt; Source tracking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82840" y="5848200"/>
            <a:ext cx="27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ults on CasA tran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498760" y="3371760"/>
            <a:ext cx="2362320" cy="1255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498760" y="4581360"/>
            <a:ext cx="2362320" cy="130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25600" y="3255840"/>
            <a:ext cx="2765520" cy="299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78400" y="5848200"/>
            <a:ext cx="27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ults on 3c123 tran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21160" y="3255840"/>
            <a:ext cx="2765520" cy="299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551560" y="3429000"/>
            <a:ext cx="2305080" cy="1214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5608800" y="4638600"/>
            <a:ext cx="2189160" cy="117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Descham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EC90-511E-410F-A58C-7680BDFF8C8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.3.2012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6440" y="146160"/>
            <a:ext cx="8915400" cy="30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COMPUTATION OF THE VISIBILITIES WITH THE SAME FPGA AND ANOTHER FIRM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3680" y="2968560"/>
            <a:ext cx="83534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rtex 5 FxT 100 has 256 multipliers and 16 GtX transceivers : #16 at half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#32 at 1/8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KIT Virtex-6 ML623** (LXT 240) has 768 multipliers and 24 GTX transceivers = 48 channels of ADC board, and can perform full-rate correlation at #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** $ 4995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3680" y="836640"/>
            <a:ext cx="858348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 channels : N(N+1)/2 elements in the visibility matrix =&gt; 2 multipliers on the diagonal + 4 multipliers on the other parts =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2N</a:t>
            </a:r>
            <a:r>
              <a:rPr b="0" lang="fr-FR" sz="16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 multi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12 channels =&gt;  288 multi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16 channels =&gt;  512 multi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24 channels =&gt; 1152 multi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32 channels=&gt; 2048 multi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03280" y="4465800"/>
            <a:ext cx="1612800" cy="113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Descham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40D1-06DB-4C81-AB87-C2387661F7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.3.2012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6440" y="146160"/>
            <a:ext cx="8915400" cy="30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COMPUTATION OF THE VISIBILITIES WITH THE NEW VC707 VIRTEX-7 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620040" y="706320"/>
            <a:ext cx="2019240" cy="4152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2000" y="4876920"/>
            <a:ext cx="8982000" cy="1428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319640" y="1152360"/>
            <a:ext cx="234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UNIBOAR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10,304 multiplieu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16x 10GbPS Rx+Tx (SFP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Visi 70 canaux /coup horlog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(10304/2)</a:t>
            </a:r>
            <a:r>
              <a:rPr b="0" lang="fr-FR" sz="1300" spc="-1" strike="noStrike" baseline="33000">
                <a:solidFill>
                  <a:srgbClr val="000000"/>
                </a:solidFill>
                <a:latin typeface="Arial"/>
              </a:rPr>
              <a:t>1/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398920" y="2879640"/>
            <a:ext cx="1082880" cy="18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400720" y="2338560"/>
            <a:ext cx="1440" cy="5428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60360" y="1138320"/>
            <a:ext cx="251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VC7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2800 multiplieu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16x 10GbPS Rx+Tx  (FMC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Visi 37 canaux /coup horlo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(2800/2)</a:t>
            </a:r>
            <a:r>
              <a:rPr b="0" lang="fr-FR" sz="1300" spc="-1" strike="noStrike" baseline="33000">
                <a:solidFill>
                  <a:srgbClr val="000000"/>
                </a:solidFill>
                <a:latin typeface="Arial"/>
              </a:rPr>
              <a:t>1/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240000" y="1978200"/>
            <a:ext cx="1800" cy="28828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Descham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1F37-1576-469C-BC44-17C47470ECB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.3.2012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6440" y="146160"/>
            <a:ext cx="8915400" cy="30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CLOCK DISTRIBUTION (DISTCLK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28800" y="4581360"/>
            <a:ext cx="311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70120" y="4178160"/>
            <a:ext cx="3282840" cy="3682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DISTCLK (emit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70040" y="4465800"/>
            <a:ext cx="922320" cy="979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92360" y="4984920"/>
            <a:ext cx="1323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016080" y="4521240"/>
            <a:ext cx="1800" cy="46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6440" y="5560920"/>
            <a:ext cx="247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ntrol by external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95640" y="5041800"/>
            <a:ext cx="2708280" cy="276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xternal 10MHz Reference C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262480" y="4520880"/>
            <a:ext cx="1800" cy="5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00080" y="2506680"/>
            <a:ext cx="2362320" cy="3682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DISTCLK (recei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016080" y="2850840"/>
            <a:ext cx="1800" cy="13287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16080" y="3371760"/>
            <a:ext cx="289080" cy="28728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494320" y="2850840"/>
            <a:ext cx="1440" cy="13287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94320" y="3371760"/>
            <a:ext cx="289080" cy="28728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92440" y="3486240"/>
            <a:ext cx="149868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46040" y="2046240"/>
            <a:ext cx="460440" cy="460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6440" y="1585800"/>
            <a:ext cx="241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8x RJ 45 Clock &amp; command for 8  ADC bo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86040" y="2162160"/>
            <a:ext cx="230040" cy="344520"/>
          </a:xfrm>
          <a:prstGeom prst="upArrow">
            <a:avLst>
              <a:gd name="adj1" fmla="val 50000"/>
              <a:gd name="adj2" fmla="val 374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98760" y="1585800"/>
            <a:ext cx="190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x differential clocks for RF 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2506680"/>
            <a:ext cx="2361960" cy="3682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DISTCLK (recei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94320" y="2046240"/>
            <a:ext cx="460440" cy="460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84720" y="1585800"/>
            <a:ext cx="241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8x RJ 45 Clock &amp; command for 8  ADC bo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34320" y="2162160"/>
            <a:ext cx="230040" cy="344520"/>
          </a:xfrm>
          <a:prstGeom prst="upArrow">
            <a:avLst>
              <a:gd name="adj1" fmla="val 50000"/>
              <a:gd name="adj2" fmla="val 374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47040" y="1585800"/>
            <a:ext cx="190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x differential clocks for RF 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84720" y="1469880"/>
            <a:ext cx="1440" cy="178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Descham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A12D-A97E-4EA2-990B-3DFEFFAE281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.3.2012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6440" y="146160"/>
            <a:ext cx="8915400" cy="30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ACTIONS A VEN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079640"/>
            <a:ext cx="809964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REL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ançay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Visibilités en pour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Gains obtenus par les visibilités du corrél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Dual beam avec ces gains en transit et/ou pour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Papier Real-Time 2012 à Berkeley (si accepté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2855880"/>
            <a:ext cx="809964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ST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se au point routines de comma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mplification du code C du FP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se au point de la carte réceptrice pour traitement de l'horloge fibre encod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920000" y="4140360"/>
            <a:ext cx="1019160" cy="900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908840" y="49291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gi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99280" y="378000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459640" y="378000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4421160"/>
            <a:ext cx="80708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utomatisation Acq LAL/Corrélateur/DISTCLK/Chari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melioration du firmware du FPGA corrél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RAZ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dividuel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 chaque M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Monitoring de l’alignement, lock PLLs… sur chaque ca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Descham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0C31-1B89-48D6-866F-ED999B34339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.3.201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7:50:51Z</dcterms:created>
  <dc:creator>deschamps</dc:creator>
  <dc:description/>
  <dc:language>en-US</dc:language>
  <cp:lastModifiedBy>deschamps</cp:lastModifiedBy>
  <dcterms:modified xsi:type="dcterms:W3CDTF">2012-03-29T17:37:50Z</dcterms:modified>
  <cp:revision>21</cp:revision>
  <dc:subject/>
  <dc:title>Diapositive 1</dc:title>
</cp:coreProperties>
</file>